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BD8D-3BAE-447A-A672-CC99BFDA867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7695-C265-4CDD-8DD5-A31AD16DA8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62D8-7B33-4774-A44F-8D46EF58E7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FC20-A1D8-4CF5-8CB4-A39B4B0A4CE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1567-3C00-4DA7-8981-D0D239DA18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8FF9-641A-4DD3-9197-E9E01C38C5E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1F55-0C52-4B82-8D7B-CFE85F59BC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626F-4FEF-490D-ABBE-8743EAC3733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C7D7-4EF5-4072-A956-A1B1441F5EF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45F0-55B4-42EB-9B60-F08028C2DA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5A9E-3388-4795-AB03-0B7E342D7F8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0F6A-2BE7-4882-AEDD-8C47DA34878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1751-5901-4F45-A75A-1F72013666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8006-55E7-4B7F-A400-E9724AABA01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6DFA-D873-4C7B-A5C7-74FE05E5EE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2E5B-9AEB-4B78-9281-F311DE914A0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752D-8B5B-4079-AA69-0BC849E417A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6C76-CD24-458C-97EF-ABB016C80D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EA50-58D4-4508-83EF-368061DEAC7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BE4A-1CB5-4FD0-86C7-71748E5B176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E71C-7521-4574-8623-CF7A8C05E5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2AF0-527E-44D3-8CF8-D53E366840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25DF-5E39-44D5-BAEC-F4697AE3B0D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2890-2485-49A8-B23F-2CD408D103B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D9EC-5642-4090-B7A7-0210F32E829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5279-D9B8-4682-B90B-55DD37D3D3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BDA1-D2E2-4A8B-AF16-9C2AEE39BBF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2A41-51EF-4EDF-BE93-1A37645D37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606D-0732-479A-9D9F-10E40B14B5D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7A98-4104-49EB-A528-FF7038124C7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CF6F-C481-406C-B5C9-D8210AF25B0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6757-8A2A-42AE-B833-E3547A32FA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26A0-4303-462F-ABEF-FF90F723C7B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AD22-CA02-4E75-9E29-B8014A30FB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F715-99A4-421D-BCF9-D4E5F7C052E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83F2-829C-4602-9F5A-FE095C1ACD0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F7D1-6F0C-4D58-A8EB-ABB713FCC3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E8AD-70EF-4AAA-B9B5-C8EDC666461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1D8B-249D-49E7-B760-13A6FC7E70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24DE-5FC8-4A83-B32A-F6E36BA03F5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6780-B1E0-4E99-A89F-744B4B771C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3D05-4295-4017-85F3-A0A23C99FD1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519-8B87-4630-9AD1-6FF68F3FDE9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8A2E-EBD6-441D-8151-9C0B611EE4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C643-4D8A-4B0E-80E6-6A4E0FDB75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0F7D-4851-4536-94AD-8023027AB71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9AF1-8033-4D82-9727-278ABDDBE15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72E1-6B48-4F96-AA9F-F77D568308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1758-8194-4C45-AC22-987B137CB9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8230-4C4D-49B0-8DE9-4515F82F89A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C4DF-80CD-4A17-9276-A16D67147F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78FE-7775-4ED7-B351-8EAF3ACF53F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C1D0-4877-4B15-9224-3E12DFA07E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FA46-F516-401A-8B1E-A0B24785FF0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FD67-626C-4261-98BB-CA8B2648BC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25DB-C5B0-46C0-8453-6D52AD146DF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B23E-85EF-4CB2-8CD0-E955093B8AF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F73C-6E0F-4676-AC89-C7E280E3FF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1021-092E-4190-B00E-E820FD7B965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A69F-5A5F-43C8-97A5-16A1DC8190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43A3-7186-4804-9E41-3FE952E912F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BAAB-DAD1-4F98-9802-F0F36109B8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B694-04C5-4232-A481-CB67361BE8B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C984-58C7-4A11-BBF2-E74740562F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D283-B087-4247-8D15-65C8F47596E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753A-3582-48E8-95D2-7C84DE0C922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EAB4-2214-4134-AF1C-FDC514ED26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0DF4-D0FF-400B-AC16-508DA0A5BB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B39F-0A0C-44E5-84AD-3ABB4419BF3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F419-3325-42CC-A262-0B8E343EA4A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ACAE-4BB7-4031-8BF5-088C24F26F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CB31-C9CC-4384-8989-6ECCFD71EC4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BCDA-399F-427C-B1A3-37DE3112BF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133C-DC18-4B11-933E-C58ADA3A27E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42C1-89E5-4925-8618-77FB1824C98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3A9A-9E55-4910-BFCF-19A28CA63B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3F33-C3FB-4E2E-98AD-BBB1AFBC008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2DE4-347C-4F3D-9E75-6D7729D8F72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EE2E-F552-4371-A52D-EEFD3F0050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2FE9-F3EC-47EC-BFD0-F04929DA69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6395-E8D0-41CC-8F74-3DF0A17E7C3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C295-CA09-4694-861B-80866F6090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AE74-4EC1-46A1-8AF0-32BB7F08E689}"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4DE7-51EF-4AE5-8A40-FFF49FCA25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B105-399F-41D3-BADC-4C0A16F7368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C6C7-A8A0-4A0C-8446-81FD89B04C4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E895-E885-4DB6-AD05-9B1E1535C3D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3237-5BE4-4AF2-AFC4-750F87B3DD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FD04-64D3-4559-B5A6-E7D95D28CEC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3260-B844-4CD8-B754-9872563C2575}"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B666-3DF4-4864-985F-AE45553BCB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B541-6596-401B-8CA7-6869D99F76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E84F-F871-4B70-AF33-29E0D27A30F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1736-0303-4F25-B536-04796815CC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4891-4631-4D35-AA9E-433B50444AE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8CC7-C64C-4206-B8E6-0389608F09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B701-D0FE-47C8-83D4-63EF703FDA1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EBCD-1D63-425A-A262-6FF11EA7ACA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9AAE-6413-4D6D-8E43-B87C15BF5B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15C4-6070-4E80-B75E-C00AFE7C46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369-8A02-4018-B2B6-2604F89F9A11}"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EE08-DB7C-47A0-8D7E-94A8377A66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F4F9-7F52-4BBA-A84F-DAE0CDBEC86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CD21-FE15-40B5-B168-48B7C630B1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F6C6-DC4F-403E-823C-F495DB68E02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73D9-601E-4877-AD9E-A68045B97262}"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A7BE-A617-4BE2-B64C-52C95CC6C66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8105-D9CD-4AA6-A0AD-2D4D9E7453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E910-E4F2-4208-AA2C-F59FFF670C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FDF3-2E3C-45A4-95E5-C38BD1FAD23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0B61-84C8-4A2A-B534-F0C1CF0098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97CB-7B88-4923-9BFF-EF2F68651AE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402E-065B-4866-B3CE-402916227CB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16F5-7736-45A3-9B77-631BC15631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0A46-B039-476A-ABF2-FEEFF96988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7E06-2C1D-4C76-B93D-1CA6F40AE6BE}"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4C42-0B37-47CD-BF78-23EED96227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4D82-29D5-4489-ADAC-7E1BF412A330}"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880E-C8D5-4F49-BB30-B9CB190281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2670-8AEC-47DD-BFFE-9722DAFA709A}"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9341-5FFC-4A5E-9727-BC16EB8BA8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8412-4861-440B-97DC-EB0B8C27710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E3DF-3782-4058-810E-D25A42CB49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1759-4D6A-453B-AAC8-3E5FB240B1E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F7F6-0853-43DE-A05F-D6466F426A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CE66-5BAF-4F9E-A958-A0C558611C3B}"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D378-B0CB-4C0B-A9C7-67C304BDE9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ABE7-BC9B-4D15-AA36-FA446595D6F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9D88-BE28-4855-AF11-933EC8C5C9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74BE-D43C-45D4-BD62-173D2506AAF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F36C-7BCE-4376-961B-A4B8E512EF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EEFD-5817-4916-935E-BD1E20113C9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040F-E057-433A-89E8-600FA80C50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8F51-8BB4-4B61-8A4A-E9AA0C4C5D47}"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F1F5-D27A-4801-AFA2-1CC92DDA4F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8996-9F25-4BFB-BC55-DA8A3C915F8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4D17-5632-4E7E-9A3C-F0B54AC05BED}"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CBA6-507B-4D2D-92FB-AAC38981E8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62BD-64C4-46E1-B768-4985CE526838}"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8BE1-27ED-4F45-A208-E12E7D7E94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EDE6-1BCE-47C3-B662-7381F6E35E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14AD-2776-4EA4-A8C5-DB2F9DADAF2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6539-482A-4EE0-8DAC-75B542EE69EF}"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4B67-1F84-468D-A4A1-BB7A5940F9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D243-7DA4-4C65-B594-BD5CA5BC73EC}"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6322-A989-434C-A928-179624443E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F77C-F2F4-4BEA-8989-A40900FD78E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E841-27A8-47E0-8882-D580FF99F926}"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D255-789E-4AF4-B751-AD33F14C90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F831-178A-4896-8A5D-9A254653A004}"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A925-468F-488D-A9C8-0AA3C25BCF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5D2D-299F-40A9-BBF1-645D197BF393}" type="datetime">
              <a:rPr b="0" lang="en-US" sz="1300" spc="-1" strike="noStrike">
                <a:solidFill>
                  <a:srgbClr val="000000"/>
                </a:solidFill>
                <a:latin typeface="Calibri"/>
              </a:rPr>
              <a:t>07/31/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FE10B-27ED-4477-B775-ADD1A1C8B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C3C9D-31C3-4C98-B32C-40F8AF87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F7AFB-0162-4079-AEF9-29156EB94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61D4-2B89-4061-A6E2-29861E30A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E469-3030-49F8-AE53-94B667FDE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C851A-9BAD-4A1B-B3FA-3B3E27D7D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EECF-3271-49D4-8B68-1C275D89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0F56-B242-41D7-9502-54ADA7FD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EEB85-CB27-4ACB-8671-B02196F75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0183-0BB7-403E-A1C8-F8164EBFB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4F3BD-D507-45DF-A74A-EE44F29B9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E8BD-C37F-4898-A1AD-A77683E52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01E7-E991-40AA-ACAF-8934ABA4CA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41D0-5D3D-467C-A54F-56DF4B29A2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5C1A-C5B3-46EE-9DF9-3BA17277E5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8292-3DB2-4200-9721-D0F16D262D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F209-7522-4909-A159-36A63CB872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9F3B-73CB-4166-BF8E-6F3AFE037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21D5-2F31-4955-AFFC-0FF853100A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8373-18D8-4883-838D-91D58625C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C94C-0F30-42B3-974C-6281FDE80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F586-36C6-4C1D-9E1D-982863E29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